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explode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908-BD5D-4014-8432-E609CBFC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811-7DE4-4525-A980-1A1F4A12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AF8A5-046A-453C-9887-6CF01FA5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F90CE-E523-497B-BA10-5F230E50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6B50F-94AE-4C91-9E37-F5C9771D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1CA9B6-5D0D-4D41-A794-C36230BD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D72E0-1A13-4346-B58B-7904EC40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B0EA1-0F52-42EA-B3FF-DEA8B9B8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5B25B-C0DE-4820-BD7B-27613812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E01E3-C7EE-4BDC-A648-4F450A21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FDE4F-BA47-4691-A530-583F389F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20883-A2DD-4502-AF72-E8F81CAC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0E3-4E5B-4F36-9A54-575057EA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00440-DDB6-47B5-A0A4-4BB7FDFD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6A9BA9-93DB-4DEA-B315-6A29BCE3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8F477-8D73-4AAB-A20F-DA5AC0DD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4EA53-A6CB-40C5-9639-2AA9D789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72B8A-EF14-4BC7-9013-D6C48780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A64EB-D88E-4C6B-8468-46E106A1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E0B53-09FB-42F0-BD7D-C5239B13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E51B2-7993-461D-9C20-EB940D76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5CDE6-195C-45A6-9271-EB813D80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86F309-9D4B-414D-874E-9D2E7CFF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6EE-FC6D-47DF-832F-E6D04E63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E205DA-FEC6-4A9B-B9BF-C2E4055D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A8609-797A-4F3A-B897-C3979801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BA1B5-A758-4C43-911F-A31EBA82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DE841-F601-42CA-A7EA-4EA467B3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ECE99-53AB-415D-AFD3-CD2567DC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B2101-7DAA-475F-B0F6-D9CC2D75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3853C-F1E5-4A52-A86E-8D72B8A5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A9C6E-BD52-42D1-8DBE-146FB49D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202D4-CDF1-4137-B23F-C17DED9C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09AF4-AFFB-4CDA-8DD9-08B65028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BD3E-A786-4B5B-A41F-A751A33A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FC2BA-ABDE-4FB5-84C9-A0AECED3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70613-5E58-46BB-8BE5-6C135B4E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EF33E-2D50-410E-9901-71E9B916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2F7809-0E6F-4A74-BD61-1A3BD676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9A29C-C2FC-472F-BBBB-0A6A28C6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DB3DD-3F52-4795-A4B1-339D6F70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9FAE84-1DA1-4602-867A-6B193D48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BE085-DB86-4EA8-A3AF-907F982F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4C8E9-F55F-4D66-B08F-8442823D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C770A-6EDA-4D0C-9883-7CD65892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5456-D473-4DAB-BEFB-28D57A05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264A1-D333-4DC5-A7B9-82AC72C3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E55E1-D05B-45D3-B9F7-9FC549E4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A0586-97DC-4E56-83DF-92DE590B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A8060-B13F-4DB7-BB66-106F5761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FE47A-C632-4404-883F-C673F0E5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DD3B-C97E-40B8-B8F8-EB6F85DC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64B9-762C-4F96-A861-9C5363A8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52E9-81FE-40A2-860D-EECC2C28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2C60-D866-437C-A8FB-8B2FECF2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5C5C-33E7-47BA-AC96-DF6E459E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3CC-B409-4B2B-A42E-9215B4EF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A8A6-93FF-42A3-BC61-93BE7490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DFC5-CA74-4F13-8538-0E8254AD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5F83-93D1-4B92-9F8B-CD728662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5ABC-46DC-44A7-91F9-69FBEE70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D5BE-DD8C-458A-9B67-373E5396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766F9-D59B-4993-BEC5-DB294D70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ABF5E-9510-4BC0-AB9F-53AB0763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07D5C-F6F6-4AB4-A9C1-5961DEDE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302A4-0370-4605-8825-888E6FAF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048FE-4DC6-48DD-BB04-25AF7C5E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D41-6747-49FA-91BD-2763A579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85EC0-9A04-4F18-BA75-36C4BE6B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08895-9096-46F3-A3A7-EE6217D9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32B23-95A0-4BF4-B66B-DBA20FA5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04491-6894-461F-82B8-F13D53C8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80082-5AF9-4602-BEFC-60E310A4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69278-08E8-4CAA-85F9-8B10EA48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5FFF7-551D-4638-AD5A-4B2B5BF0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682C8-BC57-4261-B83F-76907EEC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860AF-23E3-44EC-B6AA-2F59B02A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5F87A-8E39-4596-89F9-EC6820C8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7A3-E1B5-4B8A-8DF5-F47E3A1E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ADA1C-8702-4CD3-8855-820B2E8B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E8EEA-76F4-4903-9DAD-E1EBEE55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F1CE4-2B91-492B-B1F5-74A27596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C4D6A-36BF-4697-AAC4-EB814AB0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911B3-49A1-4B45-AD8C-90911491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F44DD-305C-4198-94BE-56A24214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12E4A-3D39-4854-8E2D-6668FAE9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DBD84-94C8-4F5F-AE63-38940901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0C957-0264-4624-8986-EB35F240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3A779-2FEB-4BD8-9E73-97B35489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EB4-362E-45C7-878E-63CE88E1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6D559-C785-4767-9C08-5DA074AD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F2FE8-A2CE-447A-833B-6FFE0BBE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AEE54-1D84-40AC-A5E9-B7E479F3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8BAD4-BDA7-448D-ABEA-A8667D9A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D1912-973B-4A72-A0FF-88078A9B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53118-A947-4854-838F-F33661BC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58422-EBDB-4741-B24A-843B9EAF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F6902-4CBD-4535-868D-073024B7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282D5-FFCE-4B53-821D-630C8937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E6D70-AE26-4EF8-98AD-83166962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8BB-86C9-4F98-9CED-99A60D10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A432D-C13B-4D59-AF29-A69B2BD7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F894C-9B22-4AC5-8FF4-79BB5E3F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A8383-06A4-4AC2-9643-CCAB1EB1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281E7-AF58-427C-B9D6-9E99EFAE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360D1-873C-4B97-9984-E33C8E79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E98EB-E67B-4D13-A6F2-FFA0CC53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3DE65-2546-4F62-8FE8-A4FAC827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79A60-3B0A-4C32-85E5-106518F3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ECBFA-6B28-41D3-A6EA-9EADA345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3D133-6F72-4F19-9C7E-9425EF3C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BC4-D500-4E25-931C-CD6CF017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91379-3DC7-43B8-A27A-0B0242A7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B7BE4-5B8F-40E1-B4F7-246DA9CF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F8E91-7989-41DF-9AD0-8AFC5939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012BC-1D21-4FCB-8605-65A1881B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27947-C0FA-4933-8CD0-9D79CC67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82BAF-E879-4BA1-87A2-D33B19D5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A0539-C24E-4AD4-8D68-B2EE24E6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1DDA9-2D59-4FB6-990B-F9AE2A09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52683-F42C-44D9-9C74-2FEE6B33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DF7AD-BF1A-4C48-9142-CE1A6E72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566-1C9D-4BCF-9FCB-3AE3FA0D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7702C-2DFD-46C5-A6EC-D3BE3253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A698E-1D86-4AF0-AABE-254CC4EC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F6B62-C257-4FD3-BCF3-5166E8E2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78D0E-8B26-42ED-8FDA-69C44F42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D3A5A-A4D9-4B9B-814D-ED9A1C77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2454F-F577-4311-B343-241F2515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7C1F6-BA76-4C76-8293-53851A48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65BE3-DD1F-4CF4-8BB1-B13B7BFE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32A31-7F3A-4383-9628-33B2713A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9850C-ED7D-4EA5-A412-58EAEF8A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B85-8256-43E5-BFA1-C87A7F58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5CB56-78E0-4DFE-9E96-3CE846AF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17B8C-3504-43FA-967C-C8B5FC13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27518-949E-49A5-A6B6-BCDF4773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0CBB2-4D7F-4B32-9804-74BB042C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F01DA-3CBE-4CF8-B95C-BD7DF576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2EEE9-9B0C-4227-B9C0-A93B43A2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5F517-3606-45D1-BC8E-826D9911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EA6957-3394-479D-879C-A0D46DEC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89E287-C10F-4332-B1EE-CF821DA3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7A4C1-BDA4-4104-A3D2-24B34A9A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B374-41BA-4016-8A23-9CF1A1A914DA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A67E-F80F-4F02-9E28-4426AE5FC302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8BC7-7181-4BA1-B1F9-87C4B96E71C7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EDA1-DFC0-4E94-9B4E-2D96D72A1910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8D12-A14D-4F7A-8B1B-7A2F3B842743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03D0-F93F-42DF-9DBC-9A3F43763179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3C0D-3A7F-4979-BF46-FF8EE42C73F3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D90E-2EDB-4786-8CA7-ED504AFF2471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F574-F3F2-40D4-B443-606B25C34151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1B9D-04FF-4279-B77E-8D1134A73A81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1355-1ACF-4B11-AEBA-A0F818A01A58}" type="slidenum">
              <a:rPr b="0" lang="en-A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48FF-1716-4E05-9398-4CD28FFF5D00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image" Target="../media/image1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646b86"/>
                </a:solidFill>
                <a:latin typeface="Georgia"/>
              </a:rPr>
              <a:t>BY JASON BROW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d16349"/>
                </a:solidFill>
                <a:latin typeface="Georgia"/>
              </a:rPr>
              <a:t>Bart Simpson Quiz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Question 7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o does Bart reunit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Homer and Marge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Sideshow Bob and his brother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Krusty with his father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Question 8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at happens to Bart when he gets f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he gets surgery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B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he stays home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. he suffers a heart attac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Question 9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o are Barts favourite cartoon character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. itchy and scratch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B. itchy and pooch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. scratchy and poochi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7b9899"/>
                </a:solidFill>
                <a:latin typeface="Georgia"/>
              </a:rPr>
              <a:t>Question 10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o is Barts favourite comic book hero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. Radioactive ma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B. The Hul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. Bartma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Game Ov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85480" y="1500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Question 1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o does Bart moon in particular?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1. 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Mr Bur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Dr hibbar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The flag of the United Stat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4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4" action="ppaction://hlinksldjump"/>
              </a:rPr>
              <a:t>The people of Austral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SORRY TRY AGAI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600200"/>
            <a:ext cx="83296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Question 1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When was Bart born?</a:t>
            </a: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4" action="ppaction://hlinksldjump"/>
              </a:rPr>
              <a:t>Question 3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5" action="ppaction://hlinksldjump"/>
              </a:rPr>
              <a:t>Question 4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6" action="ppaction://hlinksldjump"/>
              </a:rPr>
              <a:t>Question 5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7" action="ppaction://hlinksldjump"/>
              </a:rPr>
              <a:t>Question 6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8" action="ppaction://hlinksldjump"/>
              </a:rPr>
              <a:t>Question 7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9" action="ppaction://hlinksldjump"/>
              </a:rPr>
              <a:t>Question 8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 u="sng">
                <a:solidFill>
                  <a:srgbClr val="00a3d6"/>
                </a:solidFill>
                <a:uFillTx/>
                <a:latin typeface="Georgia"/>
                <a:hlinkClick r:id="rId10" action="ppaction://hlinksldjump"/>
              </a:rPr>
              <a:t>Question 9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Question 10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Left Arrow 3"/>
          <p:cNvSpPr/>
          <p:nvPr/>
        </p:nvSpPr>
        <p:spPr>
          <a:xfrm>
            <a:off x="3500280" y="2928960"/>
            <a:ext cx="1857600" cy="178596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j0214098.wav" descr=""/>
          <p:cNvPicPr/>
          <p:nvPr/>
        </p:nvPicPr>
        <p:blipFill>
          <a:blip r:embed="rId1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4" name="MSj04416470000[1].wav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9126" fill="hold"/>
                                        <p:tgtEl>
                                          <p:spTgt spid="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NICE JOB YOU GOT IT CORR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285840" y="1642680"/>
            <a:ext cx="885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GO ON TO QUESTION 2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        go to question 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go to question 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4" action="ppaction://hlinksldjump"/>
              </a:rPr>
              <a:t>go to question 5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5" action="ppaction://hlinksldjump"/>
              </a:rPr>
              <a:t>go to question 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6" action="ppaction://hlinksldjump"/>
              </a:rPr>
              <a:t>go to question 7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7" action="ppaction://hlinksldjump"/>
              </a:rPr>
              <a:t>go to question 8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8" action="ppaction://hlinksldjump"/>
              </a:rPr>
              <a:t>go to question 9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9" action="ppaction://hlinksldjump"/>
              </a:rPr>
              <a:t>go to question 1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j0214098.wav" descr=""/>
          <p:cNvPicPr/>
          <p:nvPr/>
        </p:nvPicPr>
        <p:blipFill>
          <a:blip r:embed="rId10"/>
          <a:stretch/>
        </p:blipFill>
        <p:spPr>
          <a:xfrm>
            <a:off x="4429080" y="3214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745" fill="hold"/>
                                        <p:tgtEl>
                                          <p:spTgt spid="6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When was Bart bor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1998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B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198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200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D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4" action="ppaction://hlinksldjump"/>
              </a:rPr>
              <a:t>1888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Question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at does el Barto stand for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Bart in Mexic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Bart in Frenc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Bart in Russi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4" action="ppaction://hlinksldjump"/>
              </a:rPr>
              <a:t>Bart in Chinese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Question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429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at languages can Bart speak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French , Chinese, Japanese, Brazilian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B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Irish ,Dutch , Italian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Spanish ,Canadian , Russian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Question 5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Where was Bart born?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                            </a:t>
            </a: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AU" sz="19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Shelbevile</a:t>
            </a: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1900"/>
            </a:b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                        2.</a:t>
            </a:r>
            <a:r>
              <a:rPr b="0" lang="en-AU" sz="19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North Haverbrook</a:t>
            </a: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                            </a:t>
            </a: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0" lang="en-AU" sz="19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Springfield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Question 6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What jobs has Bart had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A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wine brewer, drink mixer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B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Dog catcher and writer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. </a:t>
            </a:r>
            <a:r>
              <a:rPr b="0" lang="en-AU" sz="27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Menu boy, currier</a:t>
            </a: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23:17:45Z</dcterms:created>
  <dc:creator>user</dc:creator>
  <dc:description/>
  <dc:language>en-US</dc:language>
  <cp:lastModifiedBy>user</cp:lastModifiedBy>
  <dcterms:modified xsi:type="dcterms:W3CDTF">2009-10-05T22:23:50Z</dcterms:modified>
  <cp:revision>16</cp:revision>
  <dc:subject/>
  <dc:title>Bart Simpson Quiz</dc:title>
</cp:coreProperties>
</file>